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FE19-DD0F-4060-B976-B3E70DAE9B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Экзамен без стресса</a:t>
            </a:r>
            <a:br>
              <a:rPr sz="1200"/>
            </a:b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C4E7-78B9-47B4-A583-367430F1AB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зам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28F0-4096-4932-9FFD-A3765CD7B4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ведь ты будешь сидеть на экзамене 3 час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41F1-5212-4A04-BB29-71FB1F7A4B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дь внимател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того, как ты запомнишь все эти правила, зависит правильность твоих ответов!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5AB4-49E2-4219-B967-3021AD986E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робеги глазами весь тест, чтобы увидеть, какого типа задания в нём содержат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нимательно прочитай вопрос до конца, чтобы правильно понять его смыс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A89E-7C97-4391-9E3D-FBA1005D4C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туации сдачи серьезных экзамен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B4ED-6E07-4CE6-B737-80F5A43FDC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BD30-85CE-4F0C-A622-E61FFF67C7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езусловно, экзаме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5214-98D7-4B85-B2AE-046F8DECA8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C11D-10CC-4A8C-969E-770D45085E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AA36-DC5E-45F3-A512-F6D91DD77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м больше он успеет вам рассказать, тем лучш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B925-D743-409F-AF92-4B0063DB7F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F747-D6D2-41C4-9765-6BE0C83CD9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F58E-EE14-41BF-9708-71795CC76A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AC71-C97D-449E-A25B-8B4771A442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8B98-22DC-4441-8480-AA752F3A6D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580D-1780-4FA8-BDFF-C35FD4064A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•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709E-28B9-4625-AEB9-5D7D61DE4C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25AA-5FFE-4DEF-BF04-E5D7A33C73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ихся при подготовке к ЕГЭ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1D27-5DA0-434F-A6AB-48BA9D1BDB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Помогите детям распределить темы подготовки по дня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 Подбадривайте детей, повышайте их уверенность в себе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D588-2BEB-40BC-9190-8F2C650D45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 Контролируйте режим подготовки к экзаменам, не допускайте перегрузок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  Не критикуйте ребёнка после экзамен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FD62-43CC-42AB-B390-17157DB338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шной сдачи экзамен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МБОУ СОШ №3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г.Красноярск- 2011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734E-32B4-4826-8908-69CE1F00F2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комендации старшеклассникам при подготовке к экзаменам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br>
              <a:rPr sz="16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 есть высока работоспособность. Обычно это утренние часы после хорошего отдых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B0A4-4B5E-447A-8FA8-0CE3A6F4DE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F4E0-69F7-4482-B162-BE88A0EFE8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E844-7393-443D-868D-91F1C14E54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7EC4-A3A7-4C63-8902-4FCD41A9A7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3652-73A3-4290-9CE2-E09B784721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одготовка к экзаме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дготовь место для занятий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  Введи в интерьер комнаты жёлтый и фиолетовый цвет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  Начни с самого трудного раздела, с того материала, который знаешь хуже всего;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6B53-26B6-4036-A8AA-65E50CA1B4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     Чередуй занятия и отдых: 40 минут занятий, затем 10 минут- переры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     Выполняй как можно больше различных тестов по предмет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     Тренируйся с секундомером в руках, засекай время выполнения тестов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     Готовясь к экзаменам, мысленно рисуй себе картину победы, успеха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FF3A-81C8-4176-9EEB-47B63E45F8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500-B1E4-43A8-849A-FE146134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AEB-95B6-40DB-A607-B61BFA87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4F1-19CB-4662-A1D0-0A08B23D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66B-EF64-4AD3-8195-CE2467F5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634-F51F-45E4-B877-F3E77B85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A16-12C9-4161-8345-4AB861DD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6AE-DA7F-456C-8C16-4185EB29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9F0-2A8D-4000-A360-3B118B8B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9D2-6EA6-45CC-80E5-69970758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296-4D22-453E-92EB-E22EF2A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BAF-6D1E-4178-A750-5FB4B8E8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1F6-389B-490F-9008-29372C46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f7"/>
            </a:gs>
            <a:gs pos="100000">
              <a:srgbClr val="ffebe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4578-077D-4BDE-8AAD-21EAFE7C0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ff6600"/>
                </a:solidFill>
                <a:latin typeface="Arial"/>
              </a:rPr>
              <a:t>Экзамен без стресса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36680" y="1925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зам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тресс и для школьников, и для учителей, и для родителей. Хорошо бы выработать конструктивное отношение к ним всех участников, научиться и научить воспринимать экзамен не как испытание, а как возможность проявить себя, улучшить оценки за год, приобрести экзаменационный опыт, стать более внимательными и организованны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Рисунок1и"/>
          <p:cNvPicPr/>
          <p:nvPr/>
        </p:nvPicPr>
        <p:blipFill>
          <a:blip r:embed="rId2"/>
          <a:stretch/>
        </p:blipFill>
        <p:spPr>
          <a:xfrm>
            <a:off x="4692600" y="4290840"/>
            <a:ext cx="2438280" cy="22402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6400" y="20664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Это неправильно. Ты устал, и не надо себя переутомлять. Напротив, с вечера перестань готовиться, прими душ, соверши прогулку. Выспись как можно лучше, чтобы встать с ощущением бодрости, боевого настро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, не опаздывая, лучше за 15-20 минут до начала тестирования. При себе нужно иметь пропуск, паспорт и несколько (про запас) гелевых или капиллярных ручек с черными черн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ведь ты будешь сидеть на экзамене 3 час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4880" y="15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6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 (как заполнять бланк, какими буквами писать, как кодировать номер школы и т.д)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 внимател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того, как ты запомнишь все эти правила, зависит правильность твоих ответов!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6200" y="26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робеги глазами весь тест, чтобы увидеть, какого типа задания в нём содержа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нимательно прочитай вопрос до конца, чтобы правильно понять его смыс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д"/>
          <p:cNvPicPr/>
          <p:nvPr/>
        </p:nvPicPr>
        <p:blipFill>
          <a:blip r:embed="rId2"/>
          <a:stretch/>
        </p:blipFill>
        <p:spPr>
          <a:xfrm>
            <a:off x="5778360" y="4216320"/>
            <a:ext cx="1481400" cy="1835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6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чательно, если у родителей есть возможность оплачивать занятия с репетиторами, но только этим их помощь ни в коем случае не должна ограничиваться. Именно родители могут помочь своему одиннадцатикласснику наиболее эффективно распорядиться временем и силами при подготовке к выпускным и вступительным испытаниям. Помощь взрослых очень важна, поскольку человеку, кроме всего прочего необходима еще и психологическая готовность к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итуации сдачи серьезных экзамен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7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помочь подготовиться к экзаменам (практические рекомендации для родителей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6680" y="3022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во «экзамен» переводится с латинского как «испытание». И именно испытаниями, сложными, подчас драматичными, становятся выпускные экзамены для одиннадцатиклассников. Многие юноши и девушки после небольшого перерыва снова подвергаются проверке знаний и умений - уже на вступительных экзамен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5800" y="196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зусловно, экзам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 сугубо индивидуальное, выпускник или абитуриент оказывается один на один с комиссией. А родителям остается только волноваться за своего ребенка, ругать его согласно русской традиции или пытаться поддержать на расстоянии. Взрослые уже сделали все, что было в их сил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5800" y="19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итесь, что каждый, кто сдает экзамены, независимо от их результата, постигает самую важную в жизни науку - умение не сдаваться в трудной ситуации, а провалившись - вдохнуть полной грудью и идти дальш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examen_header"/>
          <p:cNvPicPr/>
          <p:nvPr/>
        </p:nvPicPr>
        <p:blipFill>
          <a:blip r:embed="rId1"/>
          <a:stretch/>
        </p:blipFill>
        <p:spPr>
          <a:xfrm>
            <a:off x="0" y="-47772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Рисунок1уп"/>
          <p:cNvPicPr/>
          <p:nvPr/>
        </p:nvPicPr>
        <p:blipFill>
          <a:blip r:embed="rId2"/>
          <a:stretch/>
        </p:blipFill>
        <p:spPr>
          <a:xfrm>
            <a:off x="4844880" y="3976560"/>
            <a:ext cx="1295640" cy="21528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олго до экзаменов обсудите с ребенком, что именно ему придется сдавать, какие дисциплины кажутся ему наиболее сложными, почему?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а информация поможет совместно создать план подготовки, - на какие предметы придется потратить больше времени, а что требует только повторении. Определите вместе с ребенком его «золотые часы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«жаворонок» он ил «сова»). Сложные темы лучше изучать в часы подъема, хорошо знакомые - в часы спа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м"/>
          <p:cNvPicPr/>
          <p:nvPr/>
        </p:nvPicPr>
        <p:blipFill>
          <a:blip r:embed="rId2"/>
          <a:stretch/>
        </p:blipFill>
        <p:spPr>
          <a:xfrm>
            <a:off x="4290840" y="5118120"/>
            <a:ext cx="1476720" cy="1476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те список вопросов к экзамену. Не стесняйтесь признаться ребенку, что уже не очень хорошо помните большинство разделов биологии, химии или любого другого предмета, который ему необходимо подготовить. Пусть он просветит вас по тем или иным темам, а вы зададите вопросы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м больше он успеет вам рассказать, тем лучш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1ьь"/>
          <p:cNvPicPr/>
          <p:nvPr/>
        </p:nvPicPr>
        <p:blipFill>
          <a:blip r:embed="rId2"/>
          <a:stretch/>
        </p:blipFill>
        <p:spPr>
          <a:xfrm>
            <a:off x="3471840" y="4722840"/>
            <a:ext cx="1819440" cy="150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200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стресс» прочно вошло в нашу жизнь. Стресс - негативные чувства и представления, которые возникают у людей, когда им кажется, что они не в состоянии справиться с требованиями ситуац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ывают, что экзаменационный стресс занимает одно из первых мест среди многих причин, вызывающих психическое напряжение у 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с ребенком, что вечером накануне экзамена он прекратит подготовку, прогуляется, искупается и ляжет спать вовремя. Последние двенадцать часов должны уйти на подготовку организма, а не зна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уу"/>
          <p:cNvPicPr/>
          <p:nvPr/>
        </p:nvPicPr>
        <p:blipFill>
          <a:blip r:embed="rId2"/>
          <a:stretch/>
        </p:blipFill>
        <p:spPr>
          <a:xfrm>
            <a:off x="3111480" y="4081320"/>
            <a:ext cx="262908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дите вопрос о пользе и вреде шпаргалок. Во-первых, ребенку будет интересно знать ваше мнение на этот счет (возможно, он даже удивится, что вы тоже пользовались шпаргалками и вообще знаете, что это такое). Во-вторых, необходимо помочь ребенку понять, что доставать шпаргалку имеет смысл только тогда, когда он не знает вообще ничего. Если ему кажется, что, ознакомившись с содержанием шпаргалки, он сможет получить отметку лучше, рисковать не стоит. В любом случае помочь человеку может только та шпаргалка, что написана его собственной ру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47840" y="1376280"/>
            <a:ext cx="8229600" cy="60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ходной день, когда вы никуда не торопитесь, устройте ребенку репетицию письменного экзамена. Например, возьмите один из вариантов вступительных задач по математике из справочника для поступающих в вузы. Договоритесь, что у него будет 3 или 4 часа, усадите за стол, свободный от лишних предметов, дайте несколько чистых листов бумаги, засеките время и объявите о начале «экзамена». Проследите, чтобы его не отвлекали телефон или родствен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 испытание, когда закончится время, дайте школьнику отдохнуть и проверьте вместе с ним правильность выполнения заданий. Постарайтесь исправить ошибки и обсудить, почему они возникли. Поговорите и об ощущениях, возникших в ходе домашнего экзамена: было ли ему забавно или неуютно, удалось ли сосредоточиться на задании и не отвлекать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examen_header"/>
          <p:cNvPicPr/>
          <p:nvPr/>
        </p:nvPicPr>
        <p:blipFill>
          <a:blip r:embed="rId1"/>
          <a:stretch/>
        </p:blipFill>
        <p:spPr>
          <a:xfrm>
            <a:off x="0" y="-379440"/>
            <a:ext cx="8739360" cy="16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b7f09fd14fe"/>
          <p:cNvPicPr/>
          <p:nvPr/>
        </p:nvPicPr>
        <p:blipFill>
          <a:blip r:embed="rId2"/>
          <a:stretch/>
        </p:blipFill>
        <p:spPr>
          <a:xfrm>
            <a:off x="3922560" y="4483080"/>
            <a:ext cx="1787760" cy="2374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дите за тем, чтобы во время подготовки ребенок регулярно делал короткие перерывы. Объясните ему, что отдыхать, не дожидаясь усталости, - лучшее средство от переутомления. Важно, чтобы одиннадцатиклассник обходился без стимуляторов (кофе, крепкого чая), нервная система перед экзаменом и так на взводе. Немало вреда может нанести и попытка сосредоточиться над учебниками в одной комнате с работающими телевизором или радио. Если школьник хочет работать под музыку, не надо этому препятствовать, только договоритесь, чтобы это была музыка без слов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ваш ребенок получил оценку ниже, чем хотелось бы, или вовсе провалил вступительный экзамен, помогите ему справиться с этой бедой. Не осуждайте и не насмехайтесь над ним, вместо этого воспользуйтесь возможностью понять, в чем причина неудачи, обсудите, какие выводы можно сделать и что означает в данном случае пресловутое «не повезло»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chool3"/>
          <p:cNvPicPr/>
          <p:nvPr/>
        </p:nvPicPr>
        <p:blipFill>
          <a:blip r:embed="rId2"/>
          <a:stretch/>
        </p:blipFill>
        <p:spPr>
          <a:xfrm>
            <a:off x="4289400" y="4368960"/>
            <a:ext cx="1289160" cy="1992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щихся при подготовке к ЕГЭ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 Не тревожьтесь о количестве баллов, которые ребёнок получит на экзамене. Внушайте ему мысль, что количество баллов не является показателем его возможност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Не повышайте тревожность ребёнка накануне экзаменов, это отрицательно скажется на результате тестирован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 Обеспечьте дома удобное место для занятий, проследите, чтобы никто из домашних не меша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 Помогите детям распределить темы подготовки по дн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 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 Во время тренировки по тестовым заданиям приучайте ребёнка ориентироваться во времени и уметь его распределять. Если у ребёнка нет часов, обязательно дайте их ему на экзаме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 Подбадривайте детей, повышайте их уверенность в себе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 Контролируйте режим подготовки к экзаменам, не допускайте перегруз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братите внимание на питание ребёнка. Такие продукты, как рыба, творог, орехи, курага и т.д., стимулируют работу головного мозг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Накануне экзамена обеспечьте ребёнку полноценный отдых, он должен отдохнуть и хорошо выспать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  Не критикуйте ребёнка после экзаме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.  Помните: главное - снизить напряжение и тревожность ребёнка и обеспечить ему необходимые условия для занят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шной сдачи экзамен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Красноярск- 2011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егэ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120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ации старшеклассникам при подготовке к экзамена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 Придерживайтесь основного правила: «Не теряй времени зря». Перед началом подготовки к экзаменам необходимо просмотреть весь материал и отложить тот, что хорошо знаком, а начинать учить незнакомый, нов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 Используйте время, отведенное на подготовку, как можно эффективнее. Новый и сложный материал учите в то время суток, когда хорошо думает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о есть высока работоспособность. Обычно это утренние часы после хорошего отды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examen_header"/>
          <p:cNvPicPr/>
          <p:nvPr/>
        </p:nvPicPr>
        <p:blipFill>
          <a:blip r:embed="rId1"/>
          <a:stretch/>
        </p:blipFill>
        <p:spPr>
          <a:xfrm>
            <a:off x="0" y="-127332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 Подготовить место для занятий: убери со стола лишние вещи, удобно расположи нужные учебники, пособия, тетради, бумагу, карандаши. Можно ввести в интерьер комнаты желтый и фиолетовый цвета, поскольку они повышают интеллектуальную активность. Для этого бывает достаточно какой-либо картинки в этих тонах или эстамп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 Начинай готовиться к экзаменам заранее, понемногу, по частям, сохраняя спокойствие. Состав план на каждый день подготовки, необходимо четко определить, что именно сегодня будет изучаться. А также необходимо определить время занятий с учетом ритмов орган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 К трудно запоминаемому материалу необходимо возвращаться несколько раз, просматривать его в течение нескольких минут вечером, а затем еще раз - утр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 Очень полезно составлять планы конкретных тем и держать их в уме, а не зазубривать всю тему полностью «от» и «до». Можно также практиковать написание вопросов в виде краткого, тезисного изложения материала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Рисунок1ц"/>
          <p:cNvPicPr/>
          <p:nvPr/>
        </p:nvPicPr>
        <p:blipFill>
          <a:blip r:embed="rId2"/>
          <a:stretch/>
        </p:blipFill>
        <p:spPr>
          <a:xfrm>
            <a:off x="5207040" y="4898880"/>
            <a:ext cx="1576440" cy="1465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6560" y="583920"/>
            <a:ext cx="8229600" cy="62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 Заучиваемый материал лучше разбить на смысловые куски, стараясь, чтобы их количество не превышало семи. Смысловые куски материала необходимо укрупнять и обобщать, выражая главную мысль одной фразой. Текст можно сильно сократить, представив его в виде схемы типа «звезды», «дерева» и т.п. При этом восприятие и качество запоминания значительно улучшаются за счет большей образности запис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 Пересказ текста своими словами приводит к лучшему его запоминанию, чем многократное чтение, поскольку это активная, организованная целью умственная работа. Вообще говоря, любая аналитическая работа с текстом приводит к его лучшему запоминанию. Это может быть перекомпоновка материала, нахождение парадоксальных формулировок для него, привлечение контрастного фона или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 Всегда, а во время подготовки к экзаменам особенно, заботьтесь о своем здоровье. В это время нужно хорошо и вовремя питаться. Не забывайте о прогулках и спортивных развлечениях, делайте перерывы, активно отвлекайтесь. Хорошо отдыхайте - сон вам необходим. Ни в коем случае не засиживайтесь допоздна перед экзаменом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  Ежедневно выполняйте упражнения, которые способствуют снятию внутреннего напряжения, усталости, достижению расслабл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examen_header"/>
          <p:cNvPicPr/>
          <p:nvPr/>
        </p:nvPicPr>
        <p:blipFill>
          <a:blip r:embed="rId1"/>
          <a:stretch/>
        </p:blipFill>
        <p:spPr>
          <a:xfrm>
            <a:off x="0" y="-48564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5800" y="14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готовка к экзамен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84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 Подготовь место для занятий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 Введи в интерьер комнаты жёлтый и фиолетовый цвет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  Составь план занятий. Для начала определи: кто ты - «сова» или «жаворонок», и в зависимости от этого максимально используй утренние или вечерние часы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  Начни с самого трудного раздела, с того материала, который знаешь хуже всего;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  Чередуй занятия и отдых: 40 минут занятий, затем 10 минут- переры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     Выполняй как можно больше различных тестов по предмет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     Тренируйся с секундомером в руках, засекай время выполнения тестов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     Готовясь к экзаменам, мысленно рисуй себе картину победы, успеха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     Оставь один день перед экзаменом на то, чтобы ещё раз повторить самые трудные вопрос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xamen_header"/>
          <p:cNvPicPr/>
          <p:nvPr/>
        </p:nvPicPr>
        <p:blipFill>
          <a:blip r:embed="rId1"/>
          <a:stretch/>
        </p:blipFill>
        <p:spPr>
          <a:xfrm>
            <a:off x="0" y="0"/>
            <a:ext cx="9144000" cy="1739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6:51:34Z</dcterms:created>
  <dc:creator>Дом</dc:creator>
  <dc:description/>
  <dc:language>en-US</dc:language>
  <cp:lastModifiedBy>LEGION</cp:lastModifiedBy>
  <dcterms:modified xsi:type="dcterms:W3CDTF">2015-01-27T13:43:07Z</dcterms:modified>
  <cp:revision>24</cp:revision>
  <dc:subject/>
  <dc:title>    Экзамен без стресса   </dc:title>
</cp:coreProperties>
</file>